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303F-547C-4763-AE99-8493C1A48D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F55D-9516-457E-BE44-72F4340136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3D2-15E2-458F-90D2-AA588A4A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E1C-7519-4246-A4C1-7A92E152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0B7-A348-4CB3-910C-6AE94451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BFE-BF02-4864-85A1-CB20FE09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88E5-54E8-42E0-8A3F-20A67D4D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8A5D-8011-46D1-894B-A21902B3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C7B4-061D-4538-8430-EE83495F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802D-227D-4426-8872-D6A337D8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BCB5-FD9C-42A0-9BBF-3D625DAC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6520-F4B0-4C80-8EB0-81BBC09A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324E-7FD1-4408-805D-5C22C3D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437-4FAF-4E0D-ADC3-E6324C2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953-610E-4AA5-92AE-3FCC7E5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669A-4D37-4392-8B5B-19EBC4C5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B2ED-1EF7-4B95-965D-B2F61E3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FA0A-186B-49C0-A431-A9A3CAD6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6CC-8610-4F3D-BD97-AE2558ED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6FE-EA2B-4119-9A84-4CD020DD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1FC-4BB2-4186-B63E-27826D57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576-C002-48E5-A039-1C108A5C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7DD-7FD8-41C2-8782-21689A1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E4E-2C97-4032-9B00-7A16707A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F78-A5BF-46F6-BA95-6764695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A95-4429-43EB-B73F-5E09460A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j.jpg"/>
          <p:cNvPicPr/>
          <p:nvPr/>
        </p:nvPicPr>
        <p:blipFill>
          <a:blip r:embed="rId2"/>
          <a:stretch/>
        </p:blipFill>
        <p:spPr>
          <a:xfrm>
            <a:off x="-66600" y="-23760"/>
            <a:ext cx="9277200" cy="152856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7"/>
          <p:cNvGrpSpPr/>
          <p:nvPr/>
        </p:nvGrpSpPr>
        <p:grpSpPr>
          <a:xfrm>
            <a:off x="7857360" y="114120"/>
            <a:ext cx="1311840" cy="886320"/>
            <a:chOff x="7857360" y="114120"/>
            <a:chExt cx="1311840" cy="886320"/>
          </a:xfrm>
        </p:grpSpPr>
        <p:pic>
          <p:nvPicPr>
            <p:cNvPr id="2" name="Picture 2" descr="C:\Documents and Settings\Administrator\桌面\未标题-1.png"/>
            <p:cNvPicPr/>
            <p:nvPr/>
          </p:nvPicPr>
          <p:blipFill>
            <a:blip r:embed="rId3"/>
            <a:stretch/>
          </p:blipFill>
          <p:spPr>
            <a:xfrm rot="459000">
              <a:off x="7900560" y="245160"/>
              <a:ext cx="789840" cy="7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" descr="C:\Documents and Settings\Administrator\桌面\未标题-1.png"/>
            <p:cNvPicPr/>
            <p:nvPr/>
          </p:nvPicPr>
          <p:blipFill>
            <a:blip r:embed="rId4"/>
            <a:stretch/>
          </p:blipFill>
          <p:spPr>
            <a:xfrm rot="21208200">
              <a:off x="8608320" y="142920"/>
              <a:ext cx="53532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C40-C816-420F-8E68-7008BE2409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istrator\桌面\j.jpg"/>
          <p:cNvPicPr/>
          <p:nvPr/>
        </p:nvPicPr>
        <p:blipFill>
          <a:blip r:embed="rId2"/>
          <a:stretch/>
        </p:blipFill>
        <p:spPr>
          <a:xfrm>
            <a:off x="-66600" y="-23760"/>
            <a:ext cx="9277200" cy="15285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7"/>
          <p:cNvGrpSpPr/>
          <p:nvPr/>
        </p:nvGrpSpPr>
        <p:grpSpPr>
          <a:xfrm>
            <a:off x="7857360" y="114120"/>
            <a:ext cx="1311840" cy="886320"/>
            <a:chOff x="7857360" y="114120"/>
            <a:chExt cx="1311840" cy="886320"/>
          </a:xfrm>
        </p:grpSpPr>
        <p:pic>
          <p:nvPicPr>
            <p:cNvPr id="47" name="Picture 2" descr="C:\Documents and Settings\Administrator\桌面\未标题-1.png"/>
            <p:cNvPicPr/>
            <p:nvPr/>
          </p:nvPicPr>
          <p:blipFill>
            <a:blip r:embed="rId3"/>
            <a:stretch/>
          </p:blipFill>
          <p:spPr>
            <a:xfrm rot="459000">
              <a:off x="7900560" y="245160"/>
              <a:ext cx="789840" cy="7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C:\Documents and Settings\Administrator\桌面\未标题-1.png"/>
            <p:cNvPicPr/>
            <p:nvPr/>
          </p:nvPicPr>
          <p:blipFill>
            <a:blip r:embed="rId4"/>
            <a:stretch/>
          </p:blipFill>
          <p:spPr>
            <a:xfrm rot="21208200">
              <a:off x="8608320" y="142920"/>
              <a:ext cx="5353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istrator\桌面\未标题-1.png"/>
          <p:cNvPicPr/>
          <p:nvPr/>
        </p:nvPicPr>
        <p:blipFill>
          <a:blip r:embed="rId6"/>
          <a:stretch/>
        </p:blipFill>
        <p:spPr>
          <a:xfrm rot="459000">
            <a:off x="6214680" y="4476240"/>
            <a:ext cx="1833480" cy="155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Administrator\桌面\未标题-1.png"/>
          <p:cNvPicPr/>
          <p:nvPr/>
        </p:nvPicPr>
        <p:blipFill>
          <a:blip r:embed="rId7"/>
          <a:stretch/>
        </p:blipFill>
        <p:spPr>
          <a:xfrm rot="21208200">
            <a:off x="7857720" y="4143240"/>
            <a:ext cx="1243080" cy="1051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A2EF-1306-4961-8C1B-EF8B702D30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-6480" y="804960"/>
            <a:ext cx="9296640" cy="2139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71680" y="5928840"/>
            <a:ext cx="64008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de by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轻音乐 - 古典 - 被遗忘的天使(钢琴版)超好听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5"/>
          <p:cNvSpPr/>
          <p:nvPr/>
        </p:nvSpPr>
        <p:spPr>
          <a:xfrm>
            <a:off x="5643720" y="1619280"/>
            <a:ext cx="285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Again, it is Valentine’s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he third year we’ve been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17" descr="Valentine009.jpg"/>
          <p:cNvPicPr/>
          <p:nvPr/>
        </p:nvPicPr>
        <p:blipFill>
          <a:blip r:embed="rId1"/>
          <a:stretch/>
        </p:blipFill>
        <p:spPr>
          <a:xfrm>
            <a:off x="357120" y="1071720"/>
            <a:ext cx="452916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-71280" y="1285920"/>
            <a:ext cx="607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hank you for comforting me when I'm s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Loving me when I'm m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Valentine014.jpg"/>
          <p:cNvPicPr/>
          <p:nvPr/>
        </p:nvPicPr>
        <p:blipFill>
          <a:blip r:embed="rId1"/>
          <a:stretch/>
        </p:blipFill>
        <p:spPr>
          <a:xfrm>
            <a:off x="5500800" y="1714680"/>
            <a:ext cx="3643200" cy="4071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-71280" y="2757600"/>
            <a:ext cx="5857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eaching me the meaning of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Encouraging me when I need a sh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But most of all thank you for loving m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alentine010.jpg"/>
          <p:cNvPicPr/>
          <p:nvPr/>
        </p:nvPicPr>
        <p:blipFill>
          <a:blip r:embed="rId1"/>
          <a:stretch/>
        </p:blipFill>
        <p:spPr>
          <a:xfrm>
            <a:off x="642960" y="135720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43720" y="1857240"/>
            <a:ext cx="307152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he bouquet of roses you sent to me in 2006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which makes me feel so happy and wa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714320"/>
            <a:ext cx="307188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Wish I can make you happy too with my most sincere hea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Valentine011.jpg"/>
          <p:cNvPicPr/>
          <p:nvPr/>
        </p:nvPicPr>
        <p:blipFill>
          <a:blip r:embed="rId1"/>
          <a:stretch/>
        </p:blipFill>
        <p:spPr>
          <a:xfrm>
            <a:off x="4929120" y="1285920"/>
            <a:ext cx="306720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307188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Honey, let’s cherish the love between u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Make everyday the Valentine’s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valentine.jpg"/>
          <p:cNvPicPr/>
          <p:nvPr/>
        </p:nvPicPr>
        <p:blipFill>
          <a:blip r:embed="rId1"/>
          <a:stretch/>
        </p:blipFill>
        <p:spPr>
          <a:xfrm>
            <a:off x="428760" y="1143000"/>
            <a:ext cx="4573440" cy="30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love.jpg"/>
          <p:cNvPicPr/>
          <p:nvPr/>
        </p:nvPicPr>
        <p:blipFill>
          <a:blip r:embed="rId2"/>
          <a:stretch/>
        </p:blipFill>
        <p:spPr>
          <a:xfrm>
            <a:off x="4429080" y="3500280"/>
            <a:ext cx="385776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00440" y="2071440"/>
            <a:ext cx="307188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Hug you agai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And kis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Valentine012.jpg"/>
          <p:cNvPicPr/>
          <p:nvPr/>
        </p:nvPicPr>
        <p:blipFill>
          <a:blip r:embed="rId1"/>
          <a:stretch/>
        </p:blipFill>
        <p:spPr>
          <a:xfrm>
            <a:off x="1143000" y="928800"/>
            <a:ext cx="327960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1486080" y="1857240"/>
            <a:ext cx="185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1643040" y="591336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lick here to get more free Valentine Day PowerPoint templ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ubtitle 11" descr=""/>
          <p:cNvPicPr/>
          <p:nvPr/>
        </p:nvPicPr>
        <p:blipFill>
          <a:blip r:embed="rId1"/>
          <a:stretch/>
        </p:blipFill>
        <p:spPr>
          <a:xfrm>
            <a:off x="993600" y="669960"/>
            <a:ext cx="7229520" cy="21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1:48:45Z</dcterms:created>
  <dc:creator>YlmF</dc:creator>
  <dc:description/>
  <dc:language>en-US</dc:language>
  <cp:lastModifiedBy>Administrator</cp:lastModifiedBy>
  <dcterms:modified xsi:type="dcterms:W3CDTF">2015-08-17T01:23:11Z</dcterms:modified>
  <cp:revision>320</cp:revision>
  <dc:subject/>
  <dc:title>PPT Template</dc:title>
</cp:coreProperties>
</file>